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52D-1E2F-41F5-B366-E5E26203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628-714A-4589-B986-11C3BBE0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E8B-050B-45E4-8FE3-F233BAB9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408-9039-43BE-BAE6-4C942BC5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46E-A817-40CB-AC21-597B194E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7F0-E0D3-42E3-898D-0A7714E9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8FD-42EA-42AA-89F1-A19266A5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F29-6847-42C5-BA21-3B3173DF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AE8-2A8C-42BE-AC85-CF8CF659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4B1-93DC-45C1-BC43-AB5B93A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43D-79BE-4877-B4C7-7342EB8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430-A5B7-4D6D-82A3-4C3645F4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00AF-7E87-4EA4-A15A-B35BE7EB1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ying and Dividing 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800" y="2297160"/>
            <a:ext cx="37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Multiplying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ith tile spa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8487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534520" cy="76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57400" y="2209680"/>
            <a:ext cx="533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1337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21337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1880" y="2209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0773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92468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55:55Z</dcterms:created>
  <dc:creator>Graham</dc:creator>
  <dc:description/>
  <dc:language>en-US</dc:language>
  <cp:lastModifiedBy>Graham</cp:lastModifiedBy>
  <dcterms:modified xsi:type="dcterms:W3CDTF">2011-08-30T23:56:00Z</dcterms:modified>
  <cp:revision>1</cp:revision>
  <dc:subject/>
  <dc:title>Lesson 1.8 Multiplying and Dividing Integers</dc:title>
</cp:coreProperties>
</file>